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6.gif" ContentType="image/gif"/>
  <Override PartName="/ppt/media/image15.png" ContentType="image/png"/>
  <Override PartName="/ppt/media/image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0FE5-3DB3-4B7D-9110-3BFB007A3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740F-BF03-4913-9CE3-81C768036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orbes.com/fdc/welcome_mjx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79DA-CF17-4E68-9940-89F7A9F1C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0588-8ADB-4D3D-9178-BD5BB10E0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arolguze.com/text/442-2-mutations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520E-50B0-4D68-81E0-00CE4CB1A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ysticfibrosis.ca/about-cf/what-is-cystic-fibrosi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33E0-03D4-4997-B2CE-5E559D6DD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earn.genetics.utah.edu/content/disorders/singlegene/sicklecel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www.scienceinschool.org/2010/issue14/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8880-662B-442F-8C4C-EC59BD18D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8BBE-8DD1-49C7-B683-81549FEE9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unnynj.com/lactose-intolerance-milk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: http://milk.procon.org/view.resource.php?resourceID=0006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3E33-1E52-4C9D-B469-05C7D461D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shot from: http://milk.procon.org/view.resource.php?resourceID=0006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5C0C-1274-4AE3-AC70-DC1D07703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6807-7664-4EF8-B9A0-2DFF13996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thwise-everythinghealth.blogspot.ca/2011/03/lifesaving-antibiotics-losing-power-du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yourgenome.org/facts/what-is-the-central-do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D54A-4F01-4DE7-8C98-F3B69E55C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B5A4-FE58-4BF1-8FA6-08234A1F0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hemguide.co.uk/organicprops/aminoacids/dna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EA7B-A92C-4452-BEB7-4FA52B924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narnanews.blogspot.ca/2013/04/what-is-three-parts-of-nucleotid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5040-89CD-4E32-9F50-89613A9FA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egacy.hopkinsville.kctcs.edu/instructors/Jason-Arnold/VLI/VLI/VLI818/M1SCINCE%20BIOCHEMMOLCULES/Modules/m1chem/m1chem6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61D3-831B-4169-B41A-0F0ACEF22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vulgaire.com/dna-mut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7923-D8A0-40F6-B4B9-70504EB38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site/evo101/IIIC3Causes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85BF-EF6D-417E-BBDA-49595A4F7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nareplicationshm.wikispaces.com/Replication+Mal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:  usually errors in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mutations caused by: radiation, cigarette smok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en.wikipedia.org/wiki/DNA_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D5E6-C880-40B3-B3CA-A5E24F1C0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B40-0492-4DA3-908C-A979DF8B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EE2-B66B-4812-AF4E-9DE00297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EE53-22D6-4E3E-99DE-653217CC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7C2-B315-4CF2-B932-8857A372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89F-A2EB-4217-84A3-1981C93D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60A2-6EEB-4E2C-A514-E83AEF12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24B-A0F7-4375-B9A7-3684F1EF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008-C63B-4B9D-AA59-27468177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A25-B73D-4A0C-9D32-46D9101E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DEC-0B0D-4AC0-9985-8E676651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571-AF90-45B1-ADF0-846C4F5D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BED-B4AC-4041-A340-E2DCE53B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4F3A-A5E8-496C-8132-09F0624BD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The Code of Life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ubstitutions, insertions, dele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omosomal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nondisjunction; large-scale deletions, insertions, inversions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mutations"/>
          <p:cNvPicPr/>
          <p:nvPr/>
        </p:nvPicPr>
        <p:blipFill>
          <a:blip r:embed="rId1"/>
          <a:stretch/>
        </p:blipFill>
        <p:spPr>
          <a:xfrm>
            <a:off x="685800" y="1044720"/>
            <a:ext cx="77724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stic Fib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mutations of CFTR gene (on chromosome 7) cause cystic fibro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AboutCF-Chart-ENG2-300x262"/>
          <p:cNvPicPr/>
          <p:nvPr/>
        </p:nvPicPr>
        <p:blipFill>
          <a:blip r:embed="rId1"/>
          <a:stretch/>
        </p:blipFill>
        <p:spPr>
          <a:xfrm>
            <a:off x="4495680" y="2179800"/>
            <a:ext cx="434340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ckle-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d by a single point 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sicklecell"/>
          <p:cNvPicPr/>
          <p:nvPr/>
        </p:nvPicPr>
        <p:blipFill>
          <a:blip r:embed="rId1"/>
          <a:stretch/>
        </p:blipFill>
        <p:spPr>
          <a:xfrm>
            <a:off x="5108400" y="1523880"/>
            <a:ext cx="2737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aria &amp; Sickle-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10" descr="issue14evolution7_large.jpg"/>
          <p:cNvPicPr/>
          <p:nvPr/>
        </p:nvPicPr>
        <p:blipFill>
          <a:blip r:embed="rId1"/>
          <a:srcRect l="1868" t="0" r="1868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ose In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 lacto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ler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ue to a 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is on chromosome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Lactose+by+Jessie"/>
          <p:cNvPicPr/>
          <p:nvPr/>
        </p:nvPicPr>
        <p:blipFill>
          <a:blip r:embed="rId1"/>
          <a:stretch/>
        </p:blipFill>
        <p:spPr>
          <a:xfrm>
            <a:off x="4191120" y="2108160"/>
            <a:ext cx="4572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65% of adults decrease the production of the enzyme lactase after weaning, i.e. they become lact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oler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ler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ound at higher frequencies in Europeans, and some African, Middle Eastern and South Asian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ontent Placeholder 6" descr="Screen Shot 2016-10-20 at 11.31.16 PM.png"/>
          <p:cNvPicPr/>
          <p:nvPr/>
        </p:nvPicPr>
        <p:blipFill>
          <a:blip r:embed="rId1"/>
          <a:srcRect l="0" t="-11162" r="0" b="-11162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can be helpful</a:t>
            </a: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resistance"/>
          <p:cNvPicPr/>
          <p:nvPr/>
        </p:nvPicPr>
        <p:blipFill>
          <a:blip r:embed="rId1"/>
          <a:stretch/>
        </p:blipFill>
        <p:spPr>
          <a:xfrm>
            <a:off x="685800" y="2655720"/>
            <a:ext cx="77724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DNA “do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kes prote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5" descr="dna_central_dogma_yourgenome.png"/>
          <p:cNvPicPr/>
          <p:nvPr/>
        </p:nvPicPr>
        <p:blipFill>
          <a:blip r:embed="rId1"/>
          <a:srcRect l="-24627" t="0" r="-24627" b="0"/>
          <a:stretch/>
        </p:blipFill>
        <p:spPr>
          <a:xfrm>
            <a:off x="3564000" y="1700280"/>
            <a:ext cx="4824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doublehelix"/>
          <p:cNvPicPr/>
          <p:nvPr/>
        </p:nvPicPr>
        <p:blipFill>
          <a:blip r:embed="rId1"/>
          <a:stretch/>
        </p:blipFill>
        <p:spPr>
          <a:xfrm>
            <a:off x="2131920" y="1600200"/>
            <a:ext cx="480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three parts of nucleotide"/>
          <p:cNvPicPr/>
          <p:nvPr/>
        </p:nvPicPr>
        <p:blipFill>
          <a:blip r:embed="rId1"/>
          <a:stretch/>
        </p:blipFill>
        <p:spPr>
          <a:xfrm>
            <a:off x="1895400" y="1981080"/>
            <a:ext cx="535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3-20b_dna_and_rna_stru_c"/>
          <p:cNvPicPr/>
          <p:nvPr/>
        </p:nvPicPr>
        <p:blipFill>
          <a:blip r:embed="rId1"/>
          <a:stretch/>
        </p:blipFill>
        <p:spPr>
          <a:xfrm>
            <a:off x="1492200" y="1600200"/>
            <a:ext cx="615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tation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mu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ge in the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na-mutation"/>
          <p:cNvPicPr/>
          <p:nvPr/>
        </p:nvPicPr>
        <p:blipFill>
          <a:blip r:embed="rId1"/>
          <a:stretch/>
        </p:blipFill>
        <p:spPr>
          <a:xfrm>
            <a:off x="685800" y="2681280"/>
            <a:ext cx="78487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cause mut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DNA_UV_mutation"/>
          <p:cNvPicPr/>
          <p:nvPr/>
        </p:nvPicPr>
        <p:blipFill>
          <a:blip r:embed="rId1"/>
          <a:stretch/>
        </p:blipFill>
        <p:spPr>
          <a:xfrm>
            <a:off x="3886200" y="2244600"/>
            <a:ext cx="46483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ccur during DNA replication.  In cells that divide quickly, the rate of mutations is hig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ontent Placeholder 4" descr="1200px-DNA_replication_split.svg.png"/>
          <p:cNvPicPr/>
          <p:nvPr/>
        </p:nvPicPr>
        <p:blipFill>
          <a:blip r:embed="rId1"/>
          <a:srcRect l="-30630" t="0" r="-30630" b="0"/>
          <a:stretch/>
        </p:blipFill>
        <p:spPr>
          <a:xfrm>
            <a:off x="4427640" y="1484280"/>
            <a:ext cx="4032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dc:language>en-US</dc:language>
  <cp:lastModifiedBy>rubina khan</cp:lastModifiedBy>
  <dcterms:modified xsi:type="dcterms:W3CDTF">2018-02-08T04:52:53Z</dcterms:modified>
  <cp:revision>182</cp:revision>
  <dc:subject/>
  <dc:title>Molecular Genetics</dc:title>
</cp:coreProperties>
</file>